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999-F256-4810-8F88-9F550E32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304-59F2-42FC-9B99-D5A44640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F42-357A-4DF2-9ECC-6DF9794E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079-D7A6-4A03-BA38-DF691C40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304-727A-419A-9691-3F75AEF3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02F-B5C0-4291-B3BA-498F27AC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E3A-A0C3-4DF8-9AA7-1A73B66A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468-0A6D-45CE-BB1B-23FA18AE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2CC1-880F-4663-AC86-46BD064C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C73-B692-4B27-A795-A581E756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74D-CD1C-4EB9-8FAC-55794BAA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B90-3FFA-454C-9DEB-BEA4B24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C8D9-9F52-4D21-8A4B-0BEE4F07B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4360" y="5535720"/>
            <a:ext cx="520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iginally created by Bob Perry, Malibu High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ified by John Cary, Malibu High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0320" y="3672000"/>
            <a:ext cx="436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Formata Light"/>
              </a:rPr>
              <a:t>part on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rmata Light"/>
              </a:rPr>
              <a:t>DNA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380880"/>
            <a:ext cx="70102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  N  A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25272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257800" y="0"/>
            <a:ext cx="1944720" cy="6705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10280" y="152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685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12193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152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828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23623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8954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429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40384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4572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51055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5715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62485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6858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1295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18288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3623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28954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429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0384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572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1055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5715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62485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457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990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57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990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600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2666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876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5410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6019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2133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2666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3200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3733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4343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876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5410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6019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6553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6629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7640" y="6583320"/>
            <a:ext cx="32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itd.scar.utoronto.ca/ANTAO1/ao1_sy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648320" y="2590920"/>
            <a:ext cx="2133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236232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324480" y="1752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9144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878040"/>
            <a:ext cx="2362320" cy="366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Formata Light"/>
              </a:rPr>
              <a:t>Nucleo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ormata Light"/>
              </a:rPr>
              <a:t>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ormata Light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ormata Light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194472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10280" y="152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685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12193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52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1828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23623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28954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3429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40384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4572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51055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5715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62485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6858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1295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8288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623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8954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429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40384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4572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51055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5715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62485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57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990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457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990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600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2666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4876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5410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6019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2133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2666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3200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3733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4343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4876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5410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6019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6553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6629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0280" y="311040"/>
            <a:ext cx="3372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Formata Light"/>
              </a:rPr>
              <a:t>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Formata Light"/>
              </a:rPr>
              <a:t>THE GENETIC CO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IS THE LINEAR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OF NUCLEOT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(A, T, C or G)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DOWN THE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IN THIS CASE, TH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SEQUENCE WOULD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A A A T G A T C T G G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112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4267080" cy="3174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4267440" cy="3175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648320" y="228600"/>
            <a:ext cx="434340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685800"/>
            <a:ext cx="8534520" cy="5334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619760" cy="4471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6040" y="4343400"/>
            <a:ext cx="31251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ONG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CLUDE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OTHER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7920" y="5442120"/>
            <a:ext cx="34772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AK BOND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R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WN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ETWEEN THE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164360" y="6858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R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4480" y="20574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IMID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553080" y="914040"/>
            <a:ext cx="45720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1600200"/>
            <a:ext cx="53316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5240" y="251460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en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uan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106668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y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yto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1720" y="1522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OXYRI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629400" y="380880"/>
            <a:ext cx="457200" cy="152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6000" y="76320"/>
            <a:ext cx="479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943240" y="3045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2743200"/>
            <a:ext cx="877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ome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is the collective name for all of the genes in a species, such as a  human being.   It is a DNA blueprint which specifies how all the cells are built, how they will function and how they might divide to produce new, daughter cells.  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ome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is coded in a DNA molecule.   The structure of DNA is built from four different nucleotide bases arranged in a linear string. The bases themselves are: adenine (a), guanine (g), cytosine (c) and thymine (t).  Every cell in the organisms body contains a complete copy of the genome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as inherited from the pa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990720"/>
            <a:ext cx="462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 E N O M 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112680" y="-65160"/>
            <a:ext cx="597348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 ctcgaggggc ctagacattg ccctccagag agagcaccca acaccctcca ggcttgacc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1 gccagggtgt ccccttccta ccttggagag agcagcccca gggcatcctg caggggg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1 tgggacacca gctggccttc aaggtctctg cctccctcca gccaccccac tacacgc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1 tgggatcctg gatctcagct ccctggccga caacactggc aaactcctac tcatccac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241 aggccctcct gggcatggtg gtccttccca gcctggcagt ctgttcctca cacacctt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301 tagtgcccag cccctgaggt tgcagctggg ggtgtctctg aagggctgtg agccccca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361 aagccctggg gaagtgcctg ccttgcctcc ccccggccct gccagcgcct ggctctg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421 tcctacctgg gctcccccca tccagcctcc ctccctacac actcctctca aggaggc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481 catgtcctct ccagctgccg ggcctcagag cactgtggcg tcctggggca gccaccg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541 gtcctgctgt ggcatggctc agggtggaaa gggcggaagg gaggggtcct gcagatag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01 ggtgcccact accaaacccg ctcggggcag gagagccaaa ggctgggtgt gtgcagagc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61 gccccgagag gttccgaggc tgaggccagg gtgggacata gggatgcgag gggccggg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721 acaggatact ccaacctgcc tgcccccatg gtctcatcct cctgcttctg ggacctcc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781 atcctgcccc tggtgctaag aggcaggtaa ggggctgcag gcagcagggc tcggagc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841 tgccccctca ccatgggtca ggctggacct ccaggtgcct gttctgggga gctggg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901 ccggaggggt gtaccccagg ggctcagccc agatgacact atgggggtga tggtgtca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961 ggacctggcc aggagagggg agatgggctc ccagaagagg agtgggggct gagaggg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021 ctggggggcc aggacggagc tgggccagtg cacagcttcc cacacctgcc caccccca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081 gtcctgccgc cacccccaga tcacacggaa gatgaggtcc gagtggcctg ctgaggac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141 gctgcttgtc cccaggtccc caggtcatgc cctccttctg ccaccctggg gagctg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01 cctcagctgg ggctgctgtc ctaaggcagg gtgggaacta ggcagccagc agggaggg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61 cccctccctc actcccactc tcccaccccc accaccttgg cccatccatg gcggcatc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321 gggccatccg ggactgggga caggggtcct ggggacaggg gtccggggac agggtcct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381 ggacaggggt gtggggacag gggtctgggg acaggggtgt ggggacaggg gtgtgggg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441 aggggtctgg ggacaggggt gtggggacag gggtccgggg acaggggtgt ggggac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501 gtctggggac aggggtgtgg ggacaggggt gtggggacag gggtctgggg acaggggt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561 ggggacaggg gtcctgggga caggggtgtg gggacagggg tgtggggaca ggggtgt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621 gacaggggtg tggggacagg ggtcctgggg ataggggtgt ggggacaggg gtgtgggg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681 aggggtcccg gggacagggg tgtggggaca ggggtgtggg gacaggggtc ctggggac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741 gggtctgagg acaggggtgt gggcacaggg gtcctgggga caggggtcct ggggac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01 gtcctgggga caggggtctg gggacagcag cgcaaagagc cccgccctgc agcctcca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61 tctcctggtc taatgtggaa agtggcccag            ...et cetera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80880"/>
            <a:ext cx="2514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or example, this hum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DNA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quence is a fragment of the blueprint for the hormon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insul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hen a pancreas cell activates this DNA sequence it can make insulin and secrete it into the     bloodstre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16600" y="6324480"/>
            <a:ext cx="321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cc"/>
                </a:solidFill>
                <a:uFillTx/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http://bioserve.latrobe.edu.au/bioinf/humg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74760" y="0"/>
            <a:ext cx="597348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 ctcgaggggc ctagacattg ccctccagag agagcaccca acaccctcca ggcttgacc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1 gccagggtgt ccccttccta ccttggagag agcagcccca gggcatcctg caggggg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1 tgggacacca gctggccttc aaggtctctg cctccctcca gccaccccac tacacgc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1 tgggatcctg gatctcagct ccctggccga caacactggc aaactcctac tcatccac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241 aggccctcct gggcatggtg gtccttccca gcctggcagt ctgttcctca cacacctt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301 tagtgcccag cccctgaggt tgcagctggg ggtgtctctg aagggctgtg agccccca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361 aagccctggg gaagtgcctg ccttgcctcc ccccggccct gccagcgcct ggctctg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421 tcctacctgg gctcccccca tccagcctcc ctccctacac actcctctca aggaggc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481 catgtcctct ccagctgccg ggcctcagag cactgtggcg tcctggggca gccaccg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541 gtcctgctgt ggcatggctc agggtggaaa gggcggaagg gaggggtcct gcagatag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01 ggtgcccact accaaacccg ctcggggcag gagagccaaa ggctgggtgt gtgcagagc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61 gccccgagag gttccgaggc tgaggccagg gtgggacata gggatgcgag gggccggg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721 acaggatact ccaacctgcc tgcccccatg gtctcatcct cctgcttctg ggacctcc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781 atcctgcccc tggtgctaag aggcaggtaa ggggctgcag gcagcagggc tcggagc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841 tgccccctca ccatgggtca ggctggacct ccaggtgcct gttctgggga gctggg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901 ccggaggggt gtaccccagg ggctcagccc agatgacact atgggggtga tggtgtca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961 ggacctggcc aggagagggg agatgggctc ccagaagagg agtgggggct gagaggg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021 ctggggggcc aggacggagc tgggccagtg cacagcttcc cacacctgcc caccccca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081 gtcctgccgc cacccccaga tcacacggaa gatgaggtcc gagtggcctg ctgaggac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141 gctgcttgtc cccaggtccc caggtcatgc cctccttctg ccaccctggg gagctg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01 cctcagctgg ggctgctgtc ctaaggcagg gtgggaacta ggcagccagc agggaggg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61 cccctccctc actcccactc tcccaccccc accaccttgg cccatccatg gcggcatc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321 gggccatccg ggactgggga caggggtcct ggggacaggg gtccggggac agggtcct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381 ggacaggggt gtggggacag gggtctgggg acaggggtgt ggggacaggg gtgtgggg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441 aggggtctgg ggacaggggt gtggggacag gggtccgggg acaggggtgt ggggac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501 gtctggggac aggggtgtgg ggacaggggt gtggggacag gggtctgggg acaggggt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561 ggggacaggg gtcctgggga caggggtgtg gggacagggg tgtggggaca ggggtgt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621 gacaggggtg tggggacagg ggtcctgggg ataggggtgt ggggacaggg gtgtgggg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681 aggggtcccg gggacagggg tgtggggaca ggggtgtggg gacaggggtc ctggggac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741 gggtctgagg acaggggtgt gggcacaggg gtcctgggga caggggtcct ggggac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01 gtcctgggga caggggtctg gggacagcag cgcaaagagc cccgccctgc agcctcca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61 tctcctggtc taatgtggaa agtggcccag            ...et cetera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2612880"/>
            <a:ext cx="73152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entire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human geno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or complete list of nucleotides in our DNA sequence,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consists of approxim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6 billio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nucleotides, arranged in 23 pairs of chromos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76040" y="1386000"/>
            <a:ext cx="6636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Formata Light"/>
              </a:rPr>
              <a:t>HOW CAN DNA 6 BILL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Formata Light"/>
              </a:rPr>
              <a:t>NUCLEOTIDES 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Formata Light"/>
              </a:rPr>
              <a:t>FIT INTO 23 PAIR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Formata Light"/>
              </a:rPr>
              <a:t>TINY CHROMOSOME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2438280"/>
            <a:ext cx="588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We have done our best to not infringe on copyrights and other fair-use restrictions.  The images in this PowerPoint presentation were downloaded from the world wide web and were considered part of the public domain. In many cases, a web URL is cited for reference.  The images are used here for non-profit, non-commercial, educational purposes only.  Any image that is NOT available for our non-commercial educational use will gladly be removed immediately by e-mailing us.  Persons using these PowerPoint presentations should not use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redistribute these materials for commercial purpo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cary@smmusd.org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9360" y="1371600"/>
            <a:ext cx="31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Disclaim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68800" y="6095880"/>
            <a:ext cx="46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http://www.life.uiuc.edu/bio100/lessons/dna_and_protein_synthesi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629400" cy="4916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rcRect l="0" t="3335" r="0" b="-1108"/>
          <a:stretch/>
        </p:blipFill>
        <p:spPr>
          <a:xfrm>
            <a:off x="1447920" y="0"/>
            <a:ext cx="5684760" cy="6705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57400" y="4419720"/>
            <a:ext cx="685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8640" y="426708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1752480"/>
            <a:ext cx="45720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760" y="15238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90920"/>
            <a:ext cx="685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720" y="26668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s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438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04920"/>
            <a:ext cx="83844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2160" y="2286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3733920"/>
            <a:ext cx="45720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840" y="373392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i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724280"/>
            <a:ext cx="38088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5029200"/>
            <a:ext cx="25146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426708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ff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562360" y="4952880"/>
            <a:ext cx="53316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405200">
            <a:off x="297180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553080" cy="4859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368800" y="6095880"/>
            <a:ext cx="46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http://www.life.uiuc.edu/bio100/lessons/dna_and_protein_synthesi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65040" y="136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0960" y="27288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Eras Demi ITC"/>
              </a:rPr>
              <a:t>KNOWLEDGE CHECKUP</a:t>
            </a:r>
            <a:r>
              <a:rPr b="1" lang="en-US" sz="3600" spc="-1" strike="noStrike">
                <a:solidFill>
                  <a:srgbClr val="ff3300"/>
                </a:solidFill>
                <a:latin typeface="Eras Demi ITC"/>
              </a:rPr>
              <a:t>:    PART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31760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1. Which chemical inside living things carries the genetic </a:t>
            </a: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co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2. What do the 3 letters in question one stand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3. What do the 3 things in question two really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4. What term is used to describe the total list of nucleotides that make up the genetic code of a spe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5. Approximately how many nucleotides are there in the “list” in question number four for the human spe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6. How many chromosome pairs do most human cells cont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7-8-9-10:  Name the four nucleotides that make up the genetic code of plants, animals, protists, fungi and bac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4711680" cy="4876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905120" y="1752480"/>
            <a:ext cx="1371600" cy="76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2362320"/>
            <a:ext cx="1905120" cy="75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952520" y="533520"/>
            <a:ext cx="762120" cy="1523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562720" y="685800"/>
            <a:ext cx="838080" cy="99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172200" y="609480"/>
            <a:ext cx="914400" cy="1371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400440" y="685800"/>
            <a:ext cx="1523880" cy="1676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934320" y="2438280"/>
            <a:ext cx="129528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095880" y="2971800"/>
            <a:ext cx="1981440" cy="152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2971800"/>
            <a:ext cx="266688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171840" y="3657600"/>
            <a:ext cx="1981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114800"/>
            <a:ext cx="289548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334120"/>
            <a:ext cx="25146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5409720"/>
            <a:ext cx="685800" cy="685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9560" y="4876920"/>
            <a:ext cx="1981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24720" y="22860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16    17    18      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40400" y="2216160"/>
            <a:ext cx="473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82400" y="1530360"/>
            <a:ext cx="473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01920" y="617868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93600" y="4608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Formata Light"/>
              </a:rPr>
              <a:t>KNOWLEDGE CHECKUP</a:t>
            </a: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: PAR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rcRect l="0" t="3335" r="0" b="-1108"/>
          <a:stretch/>
        </p:blipFill>
        <p:spPr>
          <a:xfrm>
            <a:off x="1447920" y="0"/>
            <a:ext cx="5684760" cy="6705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057400" y="4419720"/>
            <a:ext cx="685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3560" y="4724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752480"/>
            <a:ext cx="45720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6400" y="15238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2590920"/>
            <a:ext cx="685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6400" y="26668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2438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304920"/>
            <a:ext cx="83844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9880" y="533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733920"/>
            <a:ext cx="45720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3760" y="3886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724280"/>
            <a:ext cx="38088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5029200"/>
            <a:ext cx="25146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21000" y="4572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079360" y="958680"/>
            <a:ext cx="49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cc"/>
                </a:solidFill>
                <a:latin typeface="Eras Demi ITC"/>
              </a:rPr>
              <a:t>T H E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cc"/>
                </a:solidFill>
                <a:latin typeface="Eras Demi ITC"/>
              </a:rPr>
              <a:t>E N D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20760" y="441360"/>
            <a:ext cx="193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cc"/>
                </a:solidFill>
                <a:latin typeface="Eras Demi ITC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08640" y="4054320"/>
            <a:ext cx="537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What’s in a nam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63880" y="441360"/>
            <a:ext cx="2061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cc"/>
                </a:solidFill>
                <a:latin typeface="Eras Demi ITC"/>
              </a:rPr>
              <a:t>D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21360" y="441360"/>
            <a:ext cx="2245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Eras Demi ITC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11960" y="-236520"/>
            <a:ext cx="5920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Formata Light"/>
              </a:rPr>
              <a:t>D</a:t>
            </a:r>
            <a:r>
              <a:rPr b="1" lang="en-US" sz="9600" spc="-1" strike="noStrike" baseline="88000">
                <a:solidFill>
                  <a:srgbClr val="0000cc"/>
                </a:solidFill>
                <a:latin typeface="Formata Light"/>
              </a:rPr>
              <a:t>eoxyribos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720" y="5197320"/>
            <a:ext cx="857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…</a:t>
            </a: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refers to the sugar molec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22720" y="5959440"/>
            <a:ext cx="42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Formata Light"/>
              </a:rPr>
              <a:t>DEOXYRIBO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34002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43560" y="677880"/>
            <a:ext cx="5926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Formata Light"/>
              </a:rPr>
              <a:t>N</a:t>
            </a:r>
            <a:r>
              <a:rPr b="1" lang="en-US" sz="15000" spc="-1" strike="noStrike" baseline="58000">
                <a:solidFill>
                  <a:srgbClr val="ff3300"/>
                </a:solidFill>
                <a:latin typeface="Formata Light"/>
              </a:rPr>
              <a:t>ucleic”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746280"/>
            <a:ext cx="257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100000">
                <a:solidFill>
                  <a:srgbClr val="0000cc"/>
                </a:solidFill>
                <a:latin typeface="Formata Light"/>
              </a:rPr>
              <a:t>“</a:t>
            </a:r>
            <a:r>
              <a:rPr b="1" lang="en-US" sz="20000" spc="-1" strike="noStrike">
                <a:solidFill>
                  <a:srgbClr val="0000cc"/>
                </a:solidFill>
                <a:latin typeface="Formata Light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27440" y="5197320"/>
            <a:ext cx="746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…</a:t>
            </a: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an adjective referr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the</a:t>
            </a:r>
            <a:r>
              <a:rPr b="1" lang="en-US" sz="4400" spc="-1" strike="noStrike">
                <a:solidFill>
                  <a:srgbClr val="ffff00"/>
                </a:solidFill>
                <a:latin typeface="Formata Light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Formata Light"/>
              </a:rPr>
              <a:t>NUCLE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30217" b="0"/>
          <a:stretch/>
        </p:blipFill>
        <p:spPr>
          <a:xfrm>
            <a:off x="3733920" y="2438280"/>
            <a:ext cx="2438280" cy="2624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35280" y="677880"/>
            <a:ext cx="452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 baseline="60000">
                <a:solidFill>
                  <a:srgbClr val="0000cc"/>
                </a:solidFill>
                <a:latin typeface="Formata Light"/>
              </a:rPr>
              <a:t>“</a:t>
            </a:r>
            <a:r>
              <a:rPr b="1" lang="en-US" sz="20000" spc="-1" strike="noStrike">
                <a:solidFill>
                  <a:srgbClr val="0000cc"/>
                </a:solidFill>
                <a:latin typeface="Formata Light"/>
              </a:rPr>
              <a:t>A</a:t>
            </a:r>
            <a:r>
              <a:rPr b="1" lang="en-US" sz="15000" spc="-1" strike="noStrike" baseline="62000">
                <a:solidFill>
                  <a:srgbClr val="0000cc"/>
                </a:solidFill>
                <a:latin typeface="Formata Light"/>
              </a:rPr>
              <a:t>cid</a:t>
            </a:r>
            <a:r>
              <a:rPr b="1" lang="en-US" sz="15000" spc="-1" strike="noStrike" baseline="60000">
                <a:solidFill>
                  <a:srgbClr val="0000cc"/>
                </a:solidFill>
                <a:latin typeface="Formata Light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762120"/>
            <a:ext cx="1484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Formata Light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7600" y="3749760"/>
            <a:ext cx="697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…</a:t>
            </a: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any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with a pH lower than 7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11320" y="898560"/>
            <a:ext cx="7198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cc"/>
                </a:solidFill>
                <a:latin typeface="Eras Demi ITC"/>
              </a:rPr>
              <a:t>D N A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990720"/>
            <a:ext cx="754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Eras Demi ITC"/>
              </a:rPr>
              <a:t>D N A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32351" t="6009" r="32351" b="6009"/>
          <a:stretch/>
        </p:blipFill>
        <p:spPr>
          <a:xfrm>
            <a:off x="1371600" y="1523880"/>
            <a:ext cx="45720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32351" t="6009" r="32351" b="6009"/>
          <a:stretch/>
        </p:blipFill>
        <p:spPr>
          <a:xfrm>
            <a:off x="3886200" y="1523880"/>
            <a:ext cx="457200" cy="19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77120" y="2666880"/>
            <a:ext cx="1447560" cy="457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420696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Formata Light"/>
              </a:rPr>
              <a:t>DEOXYRIBO</a:t>
            </a: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NUCLEIC</a:t>
            </a:r>
            <a:r>
              <a:rPr b="1" lang="en-US" sz="4400" spc="-1" strike="noStrike">
                <a:solidFill>
                  <a:srgbClr val="ffff00"/>
                </a:solidFill>
                <a:latin typeface="Formata Light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Formata Light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114800"/>
            <a:ext cx="83059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rmata Light"/>
              </a:rPr>
              <a:t>1953 - Francis H. C. Crick  and James D. Watson , together with Maurice Wilkins, described the double-helix structure of DNA.  The chemical structure is based on x-ray crystallography of DNA done by Rosalind Franklin.   Watson, Crick and Wilkins were awarded the Nobel Prize in 196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Formata Light"/>
              </a:rPr>
              <a:t>Ref:  Watson, J.D. and F.H.C. Crick, 1953.  Molecular structure of nucleic acids: a structure for deoxyribonucleic acid.  Nature 171: 737-73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57560" cy="3581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343400" y="457200"/>
            <a:ext cx="4724280" cy="3414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6T16:50:42Z</dcterms:created>
  <dc:creator>Robert Perry</dc:creator>
  <dc:description/>
  <dc:language>en-US</dc:language>
  <cp:lastModifiedBy>John</cp:lastModifiedBy>
  <cp:lastPrinted>2001-01-02T14:54:32Z</cp:lastPrinted>
  <dcterms:modified xsi:type="dcterms:W3CDTF">2004-03-21T19:34:03Z</dcterms:modified>
  <cp:revision>107</cp:revision>
  <dc:subject/>
  <dc:title>No Slide Title</dc:title>
</cp:coreProperties>
</file>